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58DB-7A9E-4127-994D-5AD2D25D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CB4-0AEA-43EE-83FB-A7A0FAA4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DF6-5C14-44B2-B12D-A9C3603C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1EA-D35B-42BA-BDCE-C59EF773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66F6-90CF-4B63-8871-BC60C76D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4F9-13CA-4F82-89B6-42B1A932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BDD-2C8F-44B4-B4EA-73578F52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FD7-66F0-424D-92E5-00A8D949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87F9-CD53-47B5-AC41-F3F5821E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DEE3-3EB2-4A4B-B452-804989ED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1AF-1D8B-4DF2-BD09-C9FEEA50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E6D8-2F2D-4B11-869A-10686760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8A33-6E85-4783-8903-7808946A7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1752" t="0" r="0" b="-2229"/>
          <a:stretch/>
        </p:blipFill>
        <p:spPr>
          <a:xfrm rot="18602400">
            <a:off x="2746800" y="1092600"/>
            <a:ext cx="3379680" cy="3299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06920" y="2133720"/>
            <a:ext cx="165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Unicode MS"/>
              </a:rPr>
              <a:t>VT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64000" y="3645000"/>
            <a:ext cx="180000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8920" y="3284640"/>
            <a:ext cx="352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-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4720" y="5157720"/>
            <a:ext cx="2735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ledge of the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5805360"/>
            <a:ext cx="3600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tuational awareness in a VTS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5878440"/>
            <a:ext cx="381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with vess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3440" y="4581360"/>
            <a:ext cx="259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val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510080"/>
            <a:ext cx="2087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T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5280" y="5229360"/>
            <a:ext cx="35290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tical knowled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3440" y="3860640"/>
            <a:ext cx="3743280" cy="2016360"/>
          </a:xfrm>
          <a:prstGeom prst="ellipse">
            <a:avLst/>
          </a:prstGeom>
          <a:solidFill>
            <a:srgbClr val="c0c0c0">
              <a:alpha val="47000"/>
            </a:srgbClr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TS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, TOS, NA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6" idx="1"/>
            <a:endCxn id="44" idx="1"/>
          </p:cNvCxnSpPr>
          <p:nvPr/>
        </p:nvCxnSpPr>
        <p:spPr>
          <a:xfrm flipH="1" rot="10800000">
            <a:off x="1042920" y="3607920"/>
            <a:ext cx="1656360" cy="248544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1"/>
            <a:endCxn id="44" idx="1"/>
          </p:cNvCxnSpPr>
          <p:nvPr/>
        </p:nvCxnSpPr>
        <p:spPr>
          <a:xfrm flipH="1" rot="10800000">
            <a:off x="1044360" y="3607920"/>
            <a:ext cx="1654560" cy="1801440"/>
          </a:xfrm>
          <a:prstGeom prst="bentConnector3">
            <a:avLst>
              <a:gd name="adj1" fmla="val -13993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"/>
          <p:cNvCxnSpPr>
            <a:stCxn id="49" idx="1"/>
            <a:endCxn id="44" idx="1"/>
          </p:cNvCxnSpPr>
          <p:nvPr/>
        </p:nvCxnSpPr>
        <p:spPr>
          <a:xfrm flipH="1" rot="10800000">
            <a:off x="1042920" y="3608280"/>
            <a:ext cx="1656360" cy="1153800"/>
          </a:xfrm>
          <a:prstGeom prst="bentConnector3">
            <a:avLst>
              <a:gd name="adj1" fmla="val -14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3"/>
            <a:endCxn id="44" idx="3"/>
          </p:cNvCxnSpPr>
          <p:nvPr/>
        </p:nvCxnSpPr>
        <p:spPr>
          <a:xfrm flipH="1" flipV="1">
            <a:off x="6227640" y="3608280"/>
            <a:ext cx="2377080" cy="252216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50" idx="3"/>
            <a:endCxn id="44" idx="3"/>
          </p:cNvCxnSpPr>
          <p:nvPr/>
        </p:nvCxnSpPr>
        <p:spPr>
          <a:xfrm flipH="1" flipV="1">
            <a:off x="6227640" y="3608280"/>
            <a:ext cx="2377080" cy="1873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3"/>
            <a:endCxn id="44" idx="3"/>
          </p:cNvCxnSpPr>
          <p:nvPr/>
        </p:nvCxnSpPr>
        <p:spPr>
          <a:xfrm flipH="1" flipV="1">
            <a:off x="6227640" y="3608280"/>
            <a:ext cx="2377080" cy="1225080"/>
          </a:xfrm>
          <a:prstGeom prst="bentConnector3">
            <a:avLst>
              <a:gd name="adj1" fmla="val -972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55640" y="6206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LO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700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200" y="2276640"/>
            <a:ext cx="128592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0560" y="33192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t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53440" y="16984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YDROGRAP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164360" y="227664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81800" y="1123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LU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V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3080" y="5461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HIP OW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57800" y="25884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S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7164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81440" y="1144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872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IR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I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1080" y="277956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EORO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26920" y="4761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26920" y="5408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826920" y="6093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675280" y="54799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8675280" y="6130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8675280" y="4832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98100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90792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AS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16720" y="141300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1484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RD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SHER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692280"/>
            <a:ext cx="1224000" cy="57600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2708280"/>
            <a:ext cx="1224000" cy="576360"/>
          </a:xfrm>
          <a:prstGeom prst="ellipse">
            <a:avLst/>
          </a:prstGeom>
          <a:solidFill>
            <a:srgbClr val="003366">
              <a:alpha val="23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3:21:52Z</dcterms:created>
  <dc:creator>SonninenS</dc:creator>
  <dc:description/>
  <dc:language>en-US</dc:language>
  <cp:lastModifiedBy>SonninenS</cp:lastModifiedBy>
  <dcterms:modified xsi:type="dcterms:W3CDTF">2008-03-06T10:10:47Z</dcterms:modified>
  <cp:revision>17</cp:revision>
  <dc:subject/>
  <dc:title>Dia 1</dc:title>
</cp:coreProperties>
</file>